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05B01-250C-411D-A621-FDE68CE62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DAC6-3A18-4E15-BD71-D18442928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953E5-B18A-4613-BDD9-C54928E25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4C7BC-7603-474B-A1D9-D47804B0C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EFA06-54AF-4AAD-9CAA-40756B4E2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740F4-AA22-4FB0-94F1-7687C23A6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844D-548A-4662-B68F-3587881E4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6A70D-280A-4411-9FEE-205BC8F15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34469-8FDA-4570-977A-9E7C5C296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9ED23-73A2-4E91-8F56-94BED7E0E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7E26B-7B0D-40A7-AC39-02247EB9E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B15F-9A11-438D-9D7A-5389EDD80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2F3E5-C4C0-4086-8C09-3C205D27B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E9912-7244-476A-959A-7B960099D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EB12B-6325-4512-BF8A-AB744DEBD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9E7FB-3232-454C-B653-BD8FC1929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FA146-ACD1-4137-84E4-C67672870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D5F8A7-3E75-4545-A932-E66938EBFF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018DD-161B-4830-B53D-6AF621855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3A47B-4EDE-4B9C-B6E4-CFC94E43F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F641C-5D9D-4B91-8D9C-1D7D2A6A5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83617-8DD7-4AE0-823D-F194D7152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27CE-B5ED-4604-93A4-4A2AC1C63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9A891-E9E0-497D-BCBB-E81BE3FEE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46916-63E6-4CCB-971C-591D07E1E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B2665-C01C-4885-836C-562DB8FDA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0338B-B918-4390-8280-CFFE39E37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7932F-1B7F-46A0-B8A7-1624AE579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B6D5E0-FF68-4913-84F6-737518560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07A36-8062-4F69-8225-7BA01DDEE0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284A37-9E11-4835-8999-84454DAE81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D1A0A-C8A1-469C-8EEF-1DEA9B432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C56A6-1F82-446A-84E3-9CEE43C86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87C2-91D0-4FE6-9847-2E756947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EE823-27A4-4079-B537-34F2FA56C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2F173-66DC-48F4-97F0-2B5EF36BB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CD3DA-EED4-49B8-A4F0-F8A61C044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91EAE-1EE0-4FFA-B17F-FBE10AB83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5D847-453E-47A5-A67A-251DAEC27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DD65B-B7EF-40D9-A386-9DB991FD2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0ED57-DE5F-489E-9B50-58AA66789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D178A-A820-4BCE-A4FB-46855B7BB2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976D4-0FD1-41C5-A4B2-304846B20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DACEA-196B-4B57-917F-B2DB2A34A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13FE9-4FB4-42BF-A7A2-482434D8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5D96-C0C8-4ADB-801A-D8F7EA9A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88E6-8B85-40FB-8BD9-43447BA7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A1C5-D5F8-4228-9966-2AC98AD9D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7495-33B3-409A-938D-D4CD51CBC36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62CC-997D-45DB-9CA5-D9C165BA4A3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4454-BE0D-4D9E-9338-6023A9656E5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3C81-8F0D-491F-8E36-38D5722D129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17680" y="1371600"/>
            <a:ext cx="8480160" cy="2322360"/>
          </a:xfrm>
          <a:prstGeom prst="rect">
            <a:avLst/>
          </a:prstGeom>
          <a:ln w="0">
            <a:noFill/>
          </a:ln>
        </p:spPr>
      </p:pic>
      <p:sp>
        <p:nvSpPr>
          <p:cNvPr id="196" name="PlaceHolder 1"/>
          <p:cNvSpPr>
            <a:spLocks noGrp="1"/>
          </p:cNvSpPr>
          <p:nvPr>
            <p:ph type="subTitle"/>
          </p:nvPr>
        </p:nvSpPr>
        <p:spPr>
          <a:xfrm>
            <a:off x="2062080" y="3357720"/>
            <a:ext cx="640080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1</a:t>
            </a:r>
            <a:r>
              <a:rPr b="0" lang="en-US" sz="2600" spc="-1" strike="noStrike" baseline="30000">
                <a:solidFill>
                  <a:srgbClr val="ffffff"/>
                </a:solidFill>
                <a:latin typeface="Constantia"/>
              </a:rPr>
              <a:t>st</a:t>
            </a:r>
            <a:r>
              <a:rPr b="0" lang="en-US" sz="2600" spc="-1" strike="noStrike">
                <a:solidFill>
                  <a:srgbClr val="ffffff"/>
                </a:solidFill>
                <a:latin typeface="Constantia"/>
              </a:rPr>
              <a:t> Century Skills Training</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ssion 3</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66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und similar to the Assessment for Learning information???</a:t>
            </a:r>
            <a:br>
              <a:rPr sz="4500"/>
            </a:b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dutopia Video</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 minu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of project-based learn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chnology Integration</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chnology not contriv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emented as needed for the specific purpose of the less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5" descr=""/>
          <p:cNvPicPr/>
          <p:nvPr/>
        </p:nvPicPr>
        <p:blipFill>
          <a:blip r:embed="rId1"/>
          <a:stretch/>
        </p:blipFill>
        <p:spPr>
          <a:xfrm>
            <a:off x="517680" y="1371600"/>
            <a:ext cx="8480160" cy="2322360"/>
          </a:xfrm>
          <a:prstGeom prst="rect">
            <a:avLst/>
          </a:prstGeom>
          <a:ln w="0">
            <a:noFill/>
          </a:ln>
        </p:spPr>
      </p:pic>
      <p:sp>
        <p:nvSpPr>
          <p:cNvPr id="219"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s to share together</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are ideas with cohort for specific less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 together for common purpo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Questions?</a:t>
            </a:r>
            <a:endParaRPr b="0" lang="en-US" sz="5000" spc="-1" strike="noStrike">
              <a:solidFill>
                <a:srgbClr val="04617b"/>
              </a:solidFill>
              <a:latin typeface="Calibri"/>
            </a:endParaRPr>
          </a:p>
        </p:txBody>
      </p:sp>
      <p:pic>
        <p:nvPicPr>
          <p:cNvPr id="223" name="Picture 5" descr="C:\Documents and Settings\VPUSER\Local Settings\Temp\Temporary Internet Files\Content.IE5\X8MJMUUA\MCj04315600000[1].png"/>
          <p:cNvPicPr/>
          <p:nvPr/>
        </p:nvPicPr>
        <p:blipFill>
          <a:blip r:embed="rId1"/>
          <a:stretch/>
        </p:blipFill>
        <p:spPr>
          <a:xfrm>
            <a:off x="2438280" y="1295280"/>
            <a:ext cx="518184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3" descr=""/>
          <p:cNvPicPr/>
          <p:nvPr/>
        </p:nvPicPr>
        <p:blipFill>
          <a:blip r:embed="rId1"/>
          <a:stretch/>
        </p:blipFill>
        <p:spPr>
          <a:xfrm>
            <a:off x="517680" y="1255680"/>
            <a:ext cx="8480160" cy="2438280"/>
          </a:xfrm>
          <a:prstGeom prst="rect">
            <a:avLst/>
          </a:prstGeom>
          <a:ln w="0">
            <a:noFill/>
          </a:ln>
        </p:spPr>
      </p:pic>
      <p:sp>
        <p:nvSpPr>
          <p:cNvPr id="22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ring an example to the next training session from your classes where you have implemented assessment strategies for student learning and/or technology integration for student achievement of objectives.  Be prepared to discuss and share.</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xt Meeting</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ch 9,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3 P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E Roo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comes for Cohort</a:t>
            </a:r>
            <a:endParaRPr b="0" lang="en-US" sz="5000" spc="-1" strike="noStrike">
              <a:solidFill>
                <a:srgbClr val="04617b"/>
              </a:solidFill>
              <a:latin typeface="Calibri"/>
            </a:endParaRPr>
          </a:p>
        </p:txBody>
      </p:sp>
      <p:pic>
        <p:nvPicPr>
          <p:cNvPr id="198" name="Content Placeholder 3" descr=""/>
          <p:cNvPicPr/>
          <p:nvPr/>
        </p:nvPicPr>
        <p:blipFill>
          <a:blip r:embed="rId1"/>
          <a:stretch/>
        </p:blipFill>
        <p:spPr>
          <a:xfrm>
            <a:off x="444600" y="1932120"/>
            <a:ext cx="8254800" cy="43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comes for Session</a:t>
            </a:r>
            <a:endParaRPr b="0" lang="en-US" sz="5000" spc="-1" strike="noStrike">
              <a:solidFill>
                <a:srgbClr val="04617b"/>
              </a:solidFill>
              <a:latin typeface="Calibri"/>
            </a:endParaRPr>
          </a:p>
        </p:txBody>
      </p:sp>
      <p:pic>
        <p:nvPicPr>
          <p:cNvPr id="200" name="Content Placeholder 3" descr=""/>
          <p:cNvPicPr/>
          <p:nvPr/>
        </p:nvPicPr>
        <p:blipFill>
          <a:blip r:embed="rId1"/>
          <a:stretch/>
        </p:blipFill>
        <p:spPr>
          <a:xfrm>
            <a:off x="444600" y="1932120"/>
            <a:ext cx="8254800" cy="43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3" descr=""/>
          <p:cNvPicPr/>
          <p:nvPr/>
        </p:nvPicPr>
        <p:blipFill>
          <a:blip r:embed="rId1"/>
          <a:stretch/>
        </p:blipFill>
        <p:spPr>
          <a:xfrm>
            <a:off x="55440" y="731880"/>
            <a:ext cx="8247240" cy="2438280"/>
          </a:xfrm>
          <a:prstGeom prst="rect">
            <a:avLst/>
          </a:prstGeom>
          <a:ln w="0">
            <a:noFill/>
          </a:ln>
        </p:spPr>
      </p:pic>
      <p:sp>
        <p:nvSpPr>
          <p:cNvPr id="202" name="PlaceHolder 1"/>
          <p:cNvSpPr>
            <a:spLocks noGrp="1"/>
          </p:cNvSpPr>
          <p:nvPr>
            <p:ph/>
          </p:nvPr>
        </p:nvSpPr>
        <p:spPr>
          <a:xfrm>
            <a:off x="722160" y="1785600"/>
            <a:ext cx="7772400" cy="1500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ix Key Strategies for a Learning Classroom</a:t>
            </a:r>
            <a:endParaRPr b="0" lang="en-US" sz="45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volve students in setting and using criteria</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gage students in self-assessme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the sources of specific, descriptive feedback</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st students to set goal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collect evidence of learning in relation to standar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present evidence of learning in relation to standar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Using Assessment to Guide Instruction</a:t>
            </a:r>
            <a:endParaRPr b="0" lang="en-US" sz="45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Assessment that works in the interests of children will enhance their ability to see and understand their learning for themselves, to judge it for themselves, and to act on their judgments.”</a:t>
            </a:r>
            <a:endParaRPr b="0" lang="en-US" sz="2600" spc="-1" strike="noStrike">
              <a:solidFill>
                <a:srgbClr val="000000"/>
              </a:solidFill>
              <a:latin typeface="Constantia"/>
            </a:endParaRPr>
          </a:p>
          <a:p>
            <a:pPr marL="272880" indent="-272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y Jane Drummon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7" descr=""/>
          <p:cNvPicPr/>
          <p:nvPr/>
        </p:nvPicPr>
        <p:blipFill>
          <a:blip r:embed="rId1"/>
          <a:stretch/>
        </p:blipFill>
        <p:spPr>
          <a:xfrm>
            <a:off x="109440" y="944640"/>
            <a:ext cx="8193240" cy="2182680"/>
          </a:xfrm>
          <a:prstGeom prst="rect">
            <a:avLst/>
          </a:prstGeom>
          <a:ln w="0">
            <a:noFill/>
          </a:ln>
        </p:spPr>
      </p:pic>
      <p:sp>
        <p:nvSpPr>
          <p:cNvPr id="208"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5" descr=""/>
          <p:cNvPicPr/>
          <p:nvPr/>
        </p:nvPicPr>
        <p:blipFill>
          <a:blip r:embed="rId1"/>
          <a:stretch/>
        </p:blipFill>
        <p:spPr>
          <a:xfrm>
            <a:off x="517680" y="1371600"/>
            <a:ext cx="8480160" cy="2322360"/>
          </a:xfrm>
          <a:prstGeom prst="rect">
            <a:avLst/>
          </a:prstGeom>
          <a:ln w="0">
            <a:noFill/>
          </a:ln>
        </p:spPr>
      </p:pic>
      <p:sp>
        <p:nvSpPr>
          <p:cNvPr id="210"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tructivism</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Nature of the Learne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learner is a unique individual</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mportance of the background and culture of the learne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ponsibility for learning</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tivation for learning</a:t>
            </a:r>
            <a:endParaRPr b="0" lang="en-US" sz="2400" spc="-1" strike="noStrike">
              <a:solidFill>
                <a:srgbClr val="000000"/>
              </a:solidFill>
              <a:latin typeface="Constantia"/>
            </a:endParaRPr>
          </a:p>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Role of the Instructo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ors  as facilitators</a:t>
            </a:r>
            <a:endParaRPr b="0" lang="en-US" sz="2400" spc="-1" strike="noStrike">
              <a:solidFill>
                <a:srgbClr val="000000"/>
              </a:solidFill>
              <a:latin typeface="Constantia"/>
            </a:endParaRPr>
          </a:p>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Nature of the Learning Proces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rning is an active, social proces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ynamic interaction between task, instructor and learner</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8:35Z</dcterms:created>
  <dc:creator>VPUSER</dc:creator>
  <dc:description/>
  <dc:language>en-US</dc:language>
  <cp:lastModifiedBy>VPSD</cp:lastModifiedBy>
  <dcterms:modified xsi:type="dcterms:W3CDTF">2010-01-11T15:54:53Z</dcterms:modified>
  <cp:revision>12</cp:revision>
  <dc:subject/>
  <dc:title>Form = Function</dc:title>
</cp:coreProperties>
</file>